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F7C-F667-4169-9C8E-265C1D79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513-78A7-4423-AE2C-DA3FD336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B64-A875-4B31-8352-FFD821E5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30A-A5D8-496E-96A3-8F2B28A7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C67-7FCB-4705-A2A6-9890921C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434C-7AEC-4386-9904-53695A3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A08A-06FD-4959-914D-19BAEF1E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AC5-B052-4FFB-9C12-BA49DE0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63FD-F5A2-48AE-9D4C-61A59B6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1796-C39A-4191-B95F-EFAB031B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DE8E-16BA-4FDD-A1C1-B9A0A5B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708-04BD-42C4-9AF6-24C9761A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81D-25EC-4BD4-9CDA-ACC09D3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B5B-8723-4A81-8F8E-7735223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06DD-0DB7-4CD8-AD21-1415AE9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3F3E-BCF5-42D6-9070-C44990FD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3A1-68C0-45F2-A0A7-1C26F940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E08-0AB9-4056-A51B-E8FE26D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9EB-F0F4-4B35-8CD8-72FE2B7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29D-CE67-4F9C-B95F-98883C2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F45-20D2-4A93-9BFB-22CF695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3DF-CE8A-41CD-82EF-FE11B9B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741-3B38-4E5A-87EB-FC8A591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985-1B3A-4A31-A6EE-B2206A4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58F-22CE-4D56-9ED5-3DCC9984C0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E50-1954-42A2-B555-A608F852F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AU" sz="5400" spc="-1" strike="noStrike">
                <a:solidFill>
                  <a:srgbClr val="ffffb7"/>
                </a:solidFill>
                <a:latin typeface="Arial Black"/>
              </a:rPr>
              <a:t>Quelle heure est-il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495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AU" sz="6000" spc="-1" strike="noStrike">
                <a:solidFill>
                  <a:srgbClr val="ffffb7"/>
                </a:solidFill>
                <a:latin typeface="Arial Black"/>
              </a:rPr>
              <a:t>Il est quelle heure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781000"/>
            <a:ext cx="8007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08520" y="2997360"/>
            <a:ext cx="1844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une he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deux heure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l est trois heure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0718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4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Il est 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mi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5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Il est </a:t>
            </a:r>
            <a:r>
              <a:rPr b="0" lang="en-AU" sz="4000" spc="-1" strike="noStrike">
                <a:solidFill>
                  <a:srgbClr val="ff9900"/>
                </a:solidFill>
                <a:latin typeface="Arial"/>
              </a:rPr>
              <a:t>minu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28924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42480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ff66"/>
                </a:solidFill>
                <a:latin typeface="Arial"/>
              </a:rPr>
              <a:t>6.</a:t>
            </a: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 Il est six heures </a:t>
            </a:r>
            <a:r>
              <a:rPr b="0" lang="en-AU" sz="4800" spc="-1" strike="noStrike">
                <a:solidFill>
                  <a:srgbClr val="ff9900"/>
                </a:solidFill>
                <a:latin typeface="Arial"/>
              </a:rPr>
              <a:t>du mat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ff66"/>
                </a:solidFill>
                <a:latin typeface="Arial"/>
              </a:rPr>
              <a:t>7.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Il est deux heures </a:t>
            </a:r>
            <a:r>
              <a:rPr b="0" lang="en-AU" sz="3800" spc="-1" strike="noStrike">
                <a:solidFill>
                  <a:srgbClr val="ff9900"/>
                </a:solidFill>
                <a:latin typeface="Arial"/>
              </a:rPr>
              <a:t>de</a:t>
            </a: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800" spc="-1" strike="noStrike">
                <a:solidFill>
                  <a:srgbClr val="ff9900"/>
                </a:solidFill>
                <a:latin typeface="Arial"/>
              </a:rPr>
              <a:t>l’apr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  <a:ea typeface="Arial"/>
              </a:rPr>
              <a:t>ès-mid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9ff66"/>
                </a:solidFill>
                <a:latin typeface="Arial"/>
              </a:rPr>
              <a:t>8.</a:t>
            </a: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 Il est six heures </a:t>
            </a:r>
            <a:r>
              <a:rPr b="0" lang="en-AU" sz="4800" spc="-1" strike="noStrike">
                <a:solidFill>
                  <a:srgbClr val="ff9900"/>
                </a:solidFill>
                <a:latin typeface="Arial"/>
              </a:rPr>
              <a:t>du so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9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cin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0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d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1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et qu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2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ving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3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une heure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et d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4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ving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5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 le qu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ff66"/>
                </a:solidFill>
                <a:latin typeface="Arial"/>
              </a:rPr>
              <a:t>16.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l est deux heures </a:t>
            </a:r>
            <a:r>
              <a:rPr b="0" lang="en-AU" sz="3200" spc="-1" strike="noStrike">
                <a:solidFill>
                  <a:srgbClr val="ff9900"/>
                </a:solidFill>
                <a:latin typeface="Arial"/>
              </a:rPr>
              <a:t>moin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cin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03:14Z</dcterms:created>
  <dc:creator>Kim Deporter</dc:creator>
  <dc:description/>
  <dc:language>en-US</dc:language>
  <cp:lastModifiedBy>Mary De Poorter</cp:lastModifiedBy>
  <dcterms:modified xsi:type="dcterms:W3CDTF">2007-06-06T23:35:36Z</dcterms:modified>
  <cp:revision>6</cp:revision>
  <dc:subject/>
  <dc:title>  Quelle heure est-il?</dc:title>
</cp:coreProperties>
</file>